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B11-5402-4A1E-B159-4ED850B2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BDD-CA61-4378-AD8F-154BA39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E55-4619-467A-B1BA-DC332399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F76-E5D3-4E0A-8D54-136DD9FA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774-F3B2-4691-BACE-FD9EFED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A9F-547F-4D76-A7A1-EE586223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4A1-7198-4A24-8ADB-97C2C38A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967-B9F4-4563-B6F6-E9882B84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33B-4CB2-4D15-BD98-E732C2A7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E01-A9C4-44A0-90F4-1234344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9F9-D1A5-4D39-8EE7-B5EDE9E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D82-466A-4A3E-B535-10D4B3B8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9E2-60CB-4775-9B9E-13D827AB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rkins.html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d694"/>
            </a:gs>
            <a:gs pos="50000">
              <a:srgbClr val="ff0180"/>
            </a:gs>
            <a:gs pos="100000">
              <a:srgbClr val="58d6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6095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ol-Aid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47242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176720"/>
            <a:ext cx="233028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52680" y="4572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dwin Per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-0.43284 C -0.06528 -0.49457 -0.02604 -0.58289 0.02066 -0.58289 C 0.08975 -0.58289 0.14583 -0.49087 0.14583 -0.37457 C 0.14583 -0.33711 0.14027 -0.30289 0.12882 -0.27191 C 0.1309 -0.27191 -0.0875 0.18982 -0.0875 0.19398 C -0.0875 0.18982 -0.30608 -0.27191 -0.304 -0.27191 C -0.31545 -0.30289 -0.32084 -0.33711 -0.32084 -0.37457 C -0.32084 -0.49087 -0.26493 -0.58289 -0.19393 -0.58289 C -0.14914 -0.58289 -0.1099 -0.49457 -0.0875 -0.43284 Z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rkins"/>
          <p:cNvPicPr/>
          <p:nvPr/>
        </p:nvPicPr>
        <p:blipFill>
          <a:blip r:embed="rId1"/>
          <a:srcRect l="60010" t="0" r="3328" b="0"/>
          <a:stretch/>
        </p:blipFill>
        <p:spPr>
          <a:xfrm>
            <a:off x="152280" y="0"/>
            <a:ext cx="335304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0400" y="3809880"/>
            <a:ext cx="5715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ol-Aid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anuary 1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f days the Kool-Aid company makes leomande flavored Kool-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05272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553080" y="1219320"/>
            <a:ext cx="222264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Kool-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started in Hastings,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Kool-Aid flavors were strawberry, cherry, lemon-lime, grape, orange, and raspbe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was first spelt Kool-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is the official soft drink of Nebra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29 Kool-Aid  was distributed nation-wide to grocery stores by food broc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s trade mark is a smiley faced pi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kid 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Perkins got Kool-Aid was by getting all the juice out of a fruit-sn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hild Perkins experimented with home-made concoctions such as flavoring, extracts, and perfumes in his mothers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8 Perkins married his childhood sweetheart (Kitty), and continued to operate Perkins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38Z</dcterms:created>
  <dc:creator>install</dc:creator>
  <dc:description/>
  <dc:language>en-US</dc:language>
  <cp:lastModifiedBy>install</cp:lastModifiedBy>
  <dcterms:modified xsi:type="dcterms:W3CDTF">2011-01-14T17:09:19Z</dcterms:modified>
  <cp:revision>15</cp:revision>
  <dc:subject/>
  <dc:title>Slide 1</dc:title>
</cp:coreProperties>
</file>